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6002000" cy="11314113"/>
  <p:notesSz cx="9925050" cy="14357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6DEE-2F3C-4080-B8AC-C0AE122A2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136015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00240" y="6815520"/>
            <a:ext cx="136015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B18D-CC97-49EA-8558-CAF2A5B83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002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1698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230D-15D4-46FC-B5CF-92E4C43DD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98880" y="326880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397880" y="326880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00240" y="681552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98880" y="681552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397880" y="681552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3A3C-C151-42D1-9A3D-E065907EE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00240" y="3268800"/>
            <a:ext cx="13601520" cy="67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4E72-491A-40EC-9F1F-2B6E16758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136015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D7F2-DD3B-4FFC-B2E6-5031E67AF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1900-78BC-4351-97AA-F1CDCC67B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53E4-B38B-4054-93AC-3F853D3FA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00240" y="1006200"/>
            <a:ext cx="13601520" cy="87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BEEB-5060-4719-933C-774ADD35A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002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F567-F39F-49EF-BA6B-0754F4B3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1698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6E68-E344-431F-A34A-7157179F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00240" y="6815520"/>
            <a:ext cx="136015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3E75-B9BB-48A5-9050-34CB6D0DE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7500" spc="-1" strike="noStrike">
                <a:solidFill>
                  <a:srgbClr val="1f497d"/>
                </a:solidFill>
                <a:latin typeface="Times New Roman"/>
              </a:rPr>
              <a:t>Click to edit the title text format</a:t>
            </a:r>
            <a:endParaRPr b="0" lang="en-US" sz="75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00240" y="3268800"/>
            <a:ext cx="136015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 fontScale="96000"/>
          </a:bodyPr>
          <a:p>
            <a:pPr marL="561960" indent="-561960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1" marL="1217520" indent="-467280">
              <a:spcBef>
                <a:spcPts val="1375"/>
              </a:spcBef>
              <a:buClr>
                <a:srgbClr val="000000"/>
              </a:buClr>
              <a:buFont typeface="Times New Roman"/>
              <a:buChar char="–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2" marL="1873080" indent="-374760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3" marL="2622600" indent="-374760">
              <a:spcBef>
                <a:spcPts val="1375"/>
              </a:spcBef>
              <a:buClr>
                <a:srgbClr val="000000"/>
              </a:buClr>
              <a:buFont typeface="Times New Roman"/>
              <a:buChar char="–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4" marL="3370680" indent="-372960">
              <a:spcBef>
                <a:spcPts val="1375"/>
              </a:spcBef>
              <a:buClr>
                <a:srgbClr val="000000"/>
              </a:buClr>
              <a:buFont typeface="Times New Roman"/>
              <a:buChar char="»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5" marL="3370680" indent="-372960">
              <a:spcBef>
                <a:spcPts val="1375"/>
              </a:spcBef>
              <a:buClr>
                <a:srgbClr val="000000"/>
              </a:buClr>
              <a:buFont typeface="Times New Roman"/>
              <a:buChar char="»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6" marL="3370680" indent="-372960">
              <a:spcBef>
                <a:spcPts val="1375"/>
              </a:spcBef>
              <a:buClr>
                <a:srgbClr val="000000"/>
              </a:buClr>
              <a:buFont typeface="Times New Roman"/>
              <a:buChar char="»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00240" y="10308960"/>
            <a:ext cx="3333600" cy="7556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67320" y="10308960"/>
            <a:ext cx="5067360" cy="7556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468160" y="10308960"/>
            <a:ext cx="3333600" cy="7556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51BF6-AAF7-47F2-BED2-8326F33B6AF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143000" y="473040"/>
            <a:ext cx="14203440" cy="10369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icture 6"/>
          <p:cNvSpPr/>
          <p:nvPr/>
        </p:nvSpPr>
        <p:spPr>
          <a:xfrm>
            <a:off x="13501800" y="8586720"/>
            <a:ext cx="111420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Box 10"/>
          <p:cNvSpPr/>
          <p:nvPr/>
        </p:nvSpPr>
        <p:spPr>
          <a:xfrm>
            <a:off x="1736640" y="4937040"/>
            <a:ext cx="12673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о улицам Кемеровского муниципального округ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л.Трактовая (д. Дмитриевк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л.Вишневая (д.Сухово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Линейные графи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формационные зна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едом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Box 13"/>
          <p:cNvSpPr/>
          <p:nvPr/>
        </p:nvSpPr>
        <p:spPr>
          <a:xfrm>
            <a:off x="5857920" y="1442880"/>
            <a:ext cx="535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ОО « СИБДОРПРОЕКТ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Box 10"/>
          <p:cNvSpPr/>
          <p:nvPr/>
        </p:nvSpPr>
        <p:spPr>
          <a:xfrm>
            <a:off x="3000240" y="3943440"/>
            <a:ext cx="1092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ПРОЕКТ ОРГАНИЗАЦИИ ДОРОЖНОГО  ДВИЖ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Box 11"/>
          <p:cNvSpPr/>
          <p:nvPr/>
        </p:nvSpPr>
        <p:spPr>
          <a:xfrm>
            <a:off x="5769000" y="9906120"/>
            <a:ext cx="40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КЕМЕРОВО, 2024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Box 10"/>
          <p:cNvSpPr/>
          <p:nvPr/>
        </p:nvSpPr>
        <p:spPr>
          <a:xfrm>
            <a:off x="8501040" y="6872400"/>
            <a:ext cx="5716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2"/>
          <a:stretch/>
        </p:blipFill>
        <p:spPr>
          <a:xfrm>
            <a:off x="1954080" y="1407960"/>
            <a:ext cx="1332000" cy="13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7T04:58:01Z</dcterms:created>
  <dc:creator>User2005</dc:creator>
  <dc:description/>
  <dc:language>en-US</dc:language>
  <cp:lastModifiedBy>User</cp:lastModifiedBy>
  <cp:lastPrinted>2023-04-06T06:55:00Z</cp:lastPrinted>
  <dcterms:modified xsi:type="dcterms:W3CDTF">2024-04-23T03:37:01Z</dcterms:modified>
  <cp:revision>67</cp:revision>
  <dc:subject/>
  <dc:title>Презентация PowerPoint</dc:title>
</cp:coreProperties>
</file>